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5029200" y="6629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hyperlink" Target="file:///../../../Signoff%20Collections/Grade%209/Version%20B/9signoff_menu.ppt" TargetMode="External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880" y="1754280"/>
            <a:ext cx="777060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Connecting with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12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Main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12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ubordinat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12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lat Characters versus Round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12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ynamic Characters versus Static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>
            <a:hlinkClick r:id="rId6"/>
          </p:cNvPr>
          <p:cNvSpPr/>
          <p:nvPr/>
        </p:nvSpPr>
        <p:spPr>
          <a:xfrm>
            <a:off x="762012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haracter Interaction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6111720" y="5940360"/>
            <a:ext cx="785880" cy="91764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917640"/>
              <a:gd name="textAreaBottom" fmla="*/ 866880 h 91764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7550280" y="5940360"/>
            <a:ext cx="785520" cy="917640"/>
          </a:xfrm>
          <a:custGeom>
            <a:avLst/>
            <a:gdLst>
              <a:gd name="textAreaLeft" fmla="*/ 50760 w 785520"/>
              <a:gd name="textAreaRight" fmla="*/ 734760 w 785520"/>
              <a:gd name="textAreaTop" fmla="*/ 50760 h 917640"/>
              <a:gd name="textAreaBottom" fmla="*/ 866880 h 917640"/>
            </a:gdLst>
            <a:ahLst/>
            <a:rect l="textAreaLeft" t="textAreaTop" r="textAreaRight" b="textAreaBottom"/>
            <a:pathLst>
              <a:path w="21600" h="25231">
                <a:moveTo>
                  <a:pt x="0" y="0"/>
                </a:moveTo>
                <a:lnTo>
                  <a:pt x="21600" y="0"/>
                </a:lnTo>
                <a:lnTo>
                  <a:pt x="21600" y="25231"/>
                </a:lnTo>
                <a:lnTo>
                  <a:pt x="0" y="25231"/>
                </a:lnTo>
                <a:close/>
              </a:path>
              <a:path fill="lightenLess" w="21600" h="252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1">
                <a:moveTo>
                  <a:pt x="21600" y="0"/>
                </a:moveTo>
                <a:lnTo>
                  <a:pt x="21600" y="25231"/>
                </a:lnTo>
                <a:lnTo>
                  <a:pt x="20200" y="23831"/>
                </a:lnTo>
                <a:lnTo>
                  <a:pt x="20200" y="1400"/>
                </a:lnTo>
                <a:close/>
              </a:path>
              <a:path fill="darkenLess" w="21600" h="25231">
                <a:moveTo>
                  <a:pt x="21600" y="25231"/>
                </a:moveTo>
                <a:lnTo>
                  <a:pt x="0" y="25231"/>
                </a:lnTo>
                <a:lnTo>
                  <a:pt x="1400" y="23831"/>
                </a:lnTo>
                <a:lnTo>
                  <a:pt x="20200" y="23831"/>
                </a:lnTo>
                <a:close/>
              </a:path>
              <a:path fill="lighten" w="21600" h="25231">
                <a:moveTo>
                  <a:pt x="0" y="252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137160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ternal confli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struggle between opposing needs or desires or emotions within a charact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 versus him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657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 versus her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29160" y="26668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172360" y="33526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57360" y="1467000"/>
            <a:ext cx="2543040" cy="348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943600" y="171144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What type of conflict does the character fac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28558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867280" y="52452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137016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3701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828800"/>
            <a:ext cx="5257800" cy="325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Y’all git some stones,” commanded Joey now and was met with instant giggling obedience as everyone except me began to gather pebbles from the dusty ground. “Come on, Lizabeth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just stood there peering through the bushes, torn between wanting to join the fun and feeling that it was a bit sil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Marigolds” by Eugenia W. Colli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048120"/>
            <a:ext cx="2819160" cy="14346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ternal conflict. She has to decide whether to join in or no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813800" y="514188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43600" y="171144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What type of conflict does the character fac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370160"/>
            <a:ext cx="2286000" cy="763560"/>
          </a:xfrm>
          <a:prstGeom prst="flowChartAlternateProcess">
            <a:avLst/>
          </a:prstGeom>
          <a:solidFill>
            <a:srgbClr val="33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3701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828800"/>
            <a:ext cx="5257800" cy="325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Y’all git some stones,” commanded Joey now and was met with instant giggling obedience as everyone except me began to gather pebbles from the dusty ground. “Come on, Lizabeth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just stood there peering through the bushes, torn between wanting to join the fun and feeling that it was a bit sil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Marigolds” by Eugenia W. Colli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4395960"/>
            <a:ext cx="32004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748040"/>
            <a:ext cx="51055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081760"/>
            <a:ext cx="5335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6019920"/>
            <a:ext cx="2590920" cy="838080"/>
          </a:xfrm>
          <a:custGeom>
            <a:avLst/>
            <a:gdLst>
              <a:gd name="textAreaLeft" fmla="*/ 54000 w 2590920"/>
              <a:gd name="textAreaRight" fmla="*/ 2536920 w 2590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6757" h="21600">
                <a:moveTo>
                  <a:pt x="0" y="0"/>
                </a:moveTo>
                <a:lnTo>
                  <a:pt x="66757" y="0"/>
                </a:lnTo>
                <a:lnTo>
                  <a:pt x="66757" y="21600"/>
                </a:lnTo>
                <a:lnTo>
                  <a:pt x="0" y="21600"/>
                </a:lnTo>
                <a:close/>
              </a:path>
              <a:path fill="lightenLess" w="66757" h="21600">
                <a:moveTo>
                  <a:pt x="0" y="0"/>
                </a:moveTo>
                <a:lnTo>
                  <a:pt x="66757" y="0"/>
                </a:lnTo>
                <a:lnTo>
                  <a:pt x="65357" y="1400"/>
                </a:lnTo>
                <a:lnTo>
                  <a:pt x="1400" y="1400"/>
                </a:lnTo>
                <a:close/>
              </a:path>
              <a:path fill="darken" w="66757" h="21600">
                <a:moveTo>
                  <a:pt x="66757" y="0"/>
                </a:moveTo>
                <a:lnTo>
                  <a:pt x="66757" y="21600"/>
                </a:lnTo>
                <a:lnTo>
                  <a:pt x="65357" y="20200"/>
                </a:lnTo>
                <a:lnTo>
                  <a:pt x="65357" y="1400"/>
                </a:lnTo>
                <a:close/>
              </a:path>
              <a:path fill="darkenLess" w="66757" h="21600">
                <a:moveTo>
                  <a:pt x="66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57" y="20200"/>
                </a:lnTo>
                <a:close/>
              </a:path>
              <a:path fill="lighten" w="66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otiva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what drives a character’s actions.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Motivation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81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lains behavi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065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s often based on character’s fears, conflicts,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13064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otivation can be inferred by observing characters’ behavior, speech, a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514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veals per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400960" y="16002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133880" y="22096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133880" y="2743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152800" y="36576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880240" y="1676520"/>
            <a:ext cx="0" cy="6094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182880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7785000" y="2666880"/>
            <a:ext cx="0" cy="228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346720" y="2666880"/>
            <a:ext cx="0" cy="228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3716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               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ink of a story you’ve read in which the protagonist faces powerful conflicts. Use a chart like the one here to map out the conflicts and their resolutions, as well as the protagonist’s motivatio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1295280"/>
            <a:ext cx="1654200" cy="6858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tagon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508640" y="2209680"/>
            <a:ext cx="1654200" cy="6858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508640" y="3200400"/>
            <a:ext cx="1654200" cy="105084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nternal Confli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508640" y="4876920"/>
            <a:ext cx="1654200" cy="6858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946920" y="2209680"/>
            <a:ext cx="1654200" cy="6858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946920" y="3200400"/>
            <a:ext cx="1654200" cy="13716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External conflict and antagon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946920" y="4876920"/>
            <a:ext cx="1654200" cy="6858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1200" y="1447920"/>
            <a:ext cx="1622520" cy="339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6019920"/>
            <a:ext cx="1828800" cy="838080"/>
          </a:xfrm>
          <a:custGeom>
            <a:avLst/>
            <a:gdLst>
              <a:gd name="textAreaLeft" fmla="*/ 54000 w 1828800"/>
              <a:gd name="textAreaRight" fmla="*/ 1774800 w 1828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7123" h="21600">
                <a:moveTo>
                  <a:pt x="0" y="0"/>
                </a:moveTo>
                <a:lnTo>
                  <a:pt x="47123" y="0"/>
                </a:lnTo>
                <a:lnTo>
                  <a:pt x="47123" y="21600"/>
                </a:lnTo>
                <a:lnTo>
                  <a:pt x="0" y="21600"/>
                </a:lnTo>
                <a:close/>
              </a:path>
              <a:path fill="lightenLess" w="47123" h="21600">
                <a:moveTo>
                  <a:pt x="0" y="0"/>
                </a:moveTo>
                <a:lnTo>
                  <a:pt x="47123" y="0"/>
                </a:lnTo>
                <a:lnTo>
                  <a:pt x="45723" y="1400"/>
                </a:lnTo>
                <a:lnTo>
                  <a:pt x="1400" y="1400"/>
                </a:lnTo>
                <a:close/>
              </a:path>
              <a:path fill="darken" w="47123" h="21600">
                <a:moveTo>
                  <a:pt x="47123" y="0"/>
                </a:moveTo>
                <a:lnTo>
                  <a:pt x="47123" y="21600"/>
                </a:lnTo>
                <a:lnTo>
                  <a:pt x="45723" y="20200"/>
                </a:lnTo>
                <a:lnTo>
                  <a:pt x="45723" y="1400"/>
                </a:lnTo>
                <a:close/>
              </a:path>
              <a:path fill="darkenLess" w="47123" h="21600">
                <a:moveTo>
                  <a:pt x="47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23" y="20200"/>
                </a:lnTo>
                <a:close/>
              </a:path>
              <a:path fill="lighten" w="47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draws readers into a stor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necting with Character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10492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Vivid, complex characters whose problems and triumphs draw forth our emotions and reveal some truth about humanki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10400" y="1676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2543040" cy="348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0131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ction of the story revolves around the protagonist and th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he or she fac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Main Character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tagonis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the main character of a 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038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ntagonis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the character or force the protagonist struggles against and must overco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39200" y="16765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48280" y="29718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AA041209.jpg"/>
          <p:cNvPicPr/>
          <p:nvPr/>
        </p:nvPicPr>
        <p:blipFill>
          <a:blip r:embed="rId4"/>
          <a:srcRect l="34219" t="0" r="0" b="0"/>
          <a:stretch/>
        </p:blipFill>
        <p:spPr>
          <a:xfrm>
            <a:off x="533520" y="3809880"/>
            <a:ext cx="166356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AA053422.JPG"/>
          <p:cNvPicPr/>
          <p:nvPr/>
        </p:nvPicPr>
        <p:blipFill>
          <a:blip r:embed="rId5"/>
          <a:srcRect l="44718" t="12828" r="0" b="15387"/>
          <a:stretch/>
        </p:blipFill>
        <p:spPr>
          <a:xfrm>
            <a:off x="6248520" y="2057400"/>
            <a:ext cx="146664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68880" y="2970360"/>
            <a:ext cx="3485880" cy="2543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13716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ubordinate character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depth and complication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the plo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Subordinate Character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pic>
        <p:nvPicPr>
          <p:cNvPr id="67" name="" descr="AA053422.JPG"/>
          <p:cNvPicPr/>
          <p:nvPr/>
        </p:nvPicPr>
        <p:blipFill>
          <a:blip r:embed="rId3"/>
          <a:srcRect l="44718" t="12828" r="0" b="15387"/>
          <a:stretch/>
        </p:blipFill>
        <p:spPr>
          <a:xfrm>
            <a:off x="7086600" y="1676520"/>
            <a:ext cx="1387440" cy="180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99760" y="1447920"/>
            <a:ext cx="1794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ain chara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741760"/>
            <a:ext cx="2057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81400" y="236232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733920" y="1371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lat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19810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ave only one or two character traits that can be described in a few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lat Characters versus Round Character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276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ave no depth, like a piece of card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48680" y="28954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33320" y="1467000"/>
            <a:ext cx="2543400" cy="348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3716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ound character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9051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ave many different character traits that sometimes contradict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Flat Characters versus Round Character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55284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much like real people, with several sides to their per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590051.JPG"/>
          <p:cNvPicPr/>
          <p:nvPr/>
        </p:nvPicPr>
        <p:blipFill>
          <a:blip r:embed="rId2"/>
          <a:stretch/>
        </p:blipFill>
        <p:spPr>
          <a:xfrm>
            <a:off x="4876920" y="1447920"/>
            <a:ext cx="2519280" cy="20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914560" y="32637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590042.JPG"/>
          <p:cNvPicPr/>
          <p:nvPr/>
        </p:nvPicPr>
        <p:blipFill>
          <a:blip r:embed="rId4"/>
          <a:stretch/>
        </p:blipFill>
        <p:spPr>
          <a:xfrm>
            <a:off x="5702400" y="3352680"/>
            <a:ext cx="2908080" cy="2102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Dynamic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981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nge or grow as a result of the story’s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ynamic Characters versus Static Character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895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earn something about themselves, other people, or the world as they struggle to resolve their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511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hanges that a dynamic character undergoes contribute to th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ean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f the 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05080" y="25779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371760" y="380988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tic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81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 not change or g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Dynamic Characters versus Static Character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-33804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the same at the end of a story as they were in the begi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9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ubordinate characters are often static characte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43360" y="22096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753000" y="31240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5607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rbkm_59L.jpg"/>
          <p:cNvPicPr/>
          <p:nvPr/>
        </p:nvPicPr>
        <p:blipFill>
          <a:blip r:embed="rId2"/>
          <a:srcRect l="7971" t="3454" r="4397" b="37932"/>
          <a:stretch/>
        </p:blipFill>
        <p:spPr>
          <a:xfrm>
            <a:off x="6095880" y="2271600"/>
            <a:ext cx="1676520" cy="11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xternal conflic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struggle between a character and an outside for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362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 versus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flic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9084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 versus soci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441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racter versus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057560" y="19810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971960" y="313704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353200" y="25779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CYB20007E.jpg"/>
          <p:cNvPicPr/>
          <p:nvPr/>
        </p:nvPicPr>
        <p:blipFill>
          <a:blip r:embed="rId6"/>
          <a:stretch/>
        </p:blipFill>
        <p:spPr>
          <a:xfrm>
            <a:off x="6477120" y="3581280"/>
            <a:ext cx="1676160" cy="1119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51036.JPG"/>
          <p:cNvPicPr/>
          <p:nvPr/>
        </p:nvPicPr>
        <p:blipFill>
          <a:blip r:embed="rId7"/>
          <a:stretch/>
        </p:blipFill>
        <p:spPr>
          <a:xfrm>
            <a:off x="6934320" y="4835520"/>
            <a:ext cx="1676160" cy="1108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 </dc:creator>
  <dc:description/>
  <dc:language>en-US</dc:language>
  <cp:lastModifiedBy>stevenh</cp:lastModifiedBy>
  <cp:lastPrinted>2004-11-19T20:17:12Z</cp:lastPrinted>
  <dcterms:modified xsi:type="dcterms:W3CDTF">2005-11-21T20:56:11Z</dcterms:modified>
  <cp:revision>68</cp:revision>
  <dc:subject/>
  <dc:title>Elements of Literature: Character</dc:title>
</cp:coreProperties>
</file>